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6407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4000" y="4082400"/>
            <a:ext cx="86407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1640" y="141264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408240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1640" y="408240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2782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5400" y="1412640"/>
            <a:ext cx="2782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7160" y="1412640"/>
            <a:ext cx="2782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4000" y="4082400"/>
            <a:ext cx="2782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5400" y="4082400"/>
            <a:ext cx="2782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7160" y="4082400"/>
            <a:ext cx="2782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4216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1640" y="1412640"/>
            <a:ext cx="4216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820000" cy="56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1640" y="1412640"/>
            <a:ext cx="4216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4000" y="408240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4216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1640" y="141264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1640" y="408240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1640" y="141264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4000" y="4082400"/>
            <a:ext cx="86407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6407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00" y="4082400"/>
            <a:ext cx="86407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1640" y="141264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4000" y="408240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1640" y="408240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2782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5400" y="1412640"/>
            <a:ext cx="2782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67160" y="1412640"/>
            <a:ext cx="2782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4000" y="4082400"/>
            <a:ext cx="2782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5400" y="4082400"/>
            <a:ext cx="2782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67160" y="4082400"/>
            <a:ext cx="2782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4216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1640" y="1412640"/>
            <a:ext cx="4216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820000" cy="56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1640" y="1412640"/>
            <a:ext cx="4216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4000" y="408240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4216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1640" y="141264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1640" y="408240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1640" y="1412640"/>
            <a:ext cx="42163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4082400"/>
            <a:ext cx="86407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195640" y="1628640"/>
            <a:ext cx="5354640" cy="4608720"/>
          </a:xfrm>
          <a:custGeom>
            <a:avLst/>
            <a:gdLst/>
            <a:ahLst/>
            <a:rect l="l" t="t" r="r" b="b"/>
            <a:pathLst>
              <a:path w="3373" h="2903">
                <a:moveTo>
                  <a:pt x="725" y="2"/>
                </a:moveTo>
                <a:cubicBezTo>
                  <a:pt x="885" y="0"/>
                  <a:pt x="857" y="356"/>
                  <a:pt x="1089" y="461"/>
                </a:cubicBezTo>
                <a:cubicBezTo>
                  <a:pt x="1285" y="623"/>
                  <a:pt x="1363" y="665"/>
                  <a:pt x="1392" y="802"/>
                </a:cubicBezTo>
                <a:cubicBezTo>
                  <a:pt x="1905" y="767"/>
                  <a:pt x="2031" y="1013"/>
                  <a:pt x="2108" y="1034"/>
                </a:cubicBezTo>
                <a:cubicBezTo>
                  <a:pt x="2446" y="873"/>
                  <a:pt x="3064" y="655"/>
                  <a:pt x="3296" y="725"/>
                </a:cubicBezTo>
                <a:cubicBezTo>
                  <a:pt x="3373" y="873"/>
                  <a:pt x="3057" y="1435"/>
                  <a:pt x="2565" y="1687"/>
                </a:cubicBezTo>
                <a:cubicBezTo>
                  <a:pt x="2556" y="2318"/>
                  <a:pt x="2008" y="2809"/>
                  <a:pt x="1504" y="2903"/>
                </a:cubicBezTo>
                <a:cubicBezTo>
                  <a:pt x="1608" y="2290"/>
                  <a:pt x="929" y="2345"/>
                  <a:pt x="793" y="2465"/>
                </a:cubicBezTo>
                <a:cubicBezTo>
                  <a:pt x="533" y="2549"/>
                  <a:pt x="154" y="2472"/>
                  <a:pt x="27" y="2233"/>
                </a:cubicBezTo>
                <a:cubicBezTo>
                  <a:pt x="0" y="1997"/>
                  <a:pt x="497" y="2198"/>
                  <a:pt x="330" y="1821"/>
                </a:cubicBezTo>
                <a:cubicBezTo>
                  <a:pt x="154" y="1407"/>
                  <a:pt x="590" y="1470"/>
                  <a:pt x="492" y="1180"/>
                </a:cubicBezTo>
                <a:cubicBezTo>
                  <a:pt x="345" y="774"/>
                  <a:pt x="457" y="56"/>
                  <a:pt x="725" y="2"/>
                </a:cubicBez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50000">
                <a:srgbClr val="000078"/>
              </a:gs>
              <a:gs pos="100000">
                <a:srgbClr val="0000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24640"/>
            <a:ext cx="9144000" cy="335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3399ff"/>
                </a:solidFill>
                <a:latin typeface="Lucida Console"/>
              </a:rPr>
              <a:t>PortalFox Tucumán - http://tucuman.portalfox.com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651640" y="4076640"/>
            <a:ext cx="2977920" cy="2562120"/>
          </a:xfrm>
          <a:custGeom>
            <a:avLst/>
            <a:gdLst/>
            <a:ahLst/>
            <a:rect l="l" t="t" r="r" b="b"/>
            <a:pathLst>
              <a:path w="3373" h="2903">
                <a:moveTo>
                  <a:pt x="725" y="2"/>
                </a:moveTo>
                <a:cubicBezTo>
                  <a:pt x="885" y="0"/>
                  <a:pt x="857" y="356"/>
                  <a:pt x="1089" y="461"/>
                </a:cubicBezTo>
                <a:cubicBezTo>
                  <a:pt x="1285" y="623"/>
                  <a:pt x="1363" y="665"/>
                  <a:pt x="1392" y="802"/>
                </a:cubicBezTo>
                <a:cubicBezTo>
                  <a:pt x="1905" y="767"/>
                  <a:pt x="2031" y="1013"/>
                  <a:pt x="2108" y="1034"/>
                </a:cubicBezTo>
                <a:cubicBezTo>
                  <a:pt x="2446" y="873"/>
                  <a:pt x="3064" y="655"/>
                  <a:pt x="3296" y="725"/>
                </a:cubicBezTo>
                <a:cubicBezTo>
                  <a:pt x="3373" y="873"/>
                  <a:pt x="3057" y="1435"/>
                  <a:pt x="2565" y="1687"/>
                </a:cubicBezTo>
                <a:cubicBezTo>
                  <a:pt x="2556" y="2318"/>
                  <a:pt x="2008" y="2809"/>
                  <a:pt x="1504" y="2903"/>
                </a:cubicBezTo>
                <a:cubicBezTo>
                  <a:pt x="1608" y="2290"/>
                  <a:pt x="929" y="2345"/>
                  <a:pt x="793" y="2465"/>
                </a:cubicBezTo>
                <a:cubicBezTo>
                  <a:pt x="533" y="2549"/>
                  <a:pt x="154" y="2472"/>
                  <a:pt x="27" y="2233"/>
                </a:cubicBezTo>
                <a:cubicBezTo>
                  <a:pt x="0" y="1997"/>
                  <a:pt x="497" y="2198"/>
                  <a:pt x="330" y="1821"/>
                </a:cubicBezTo>
                <a:cubicBezTo>
                  <a:pt x="154" y="1407"/>
                  <a:pt x="590" y="1470"/>
                  <a:pt x="492" y="1180"/>
                </a:cubicBezTo>
                <a:cubicBezTo>
                  <a:pt x="345" y="774"/>
                  <a:pt x="457" y="56"/>
                  <a:pt x="725" y="2"/>
                </a:cubicBezTo>
                <a:close/>
              </a:path>
            </a:pathLst>
          </a:custGeom>
          <a:gradFill rotWithShape="0">
            <a:gsLst>
              <a:gs pos="0">
                <a:srgbClr val="00006e"/>
              </a:gs>
              <a:gs pos="50000">
                <a:srgbClr val="000078"/>
              </a:gs>
              <a:gs pos="100000">
                <a:srgbClr val="0000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424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800"/>
                </a:solidFill>
                <a:latin typeface="Tahoma"/>
              </a:rPr>
              <a:t>Click to edit the title text format</a:t>
            </a:r>
            <a:endParaRPr b="1" lang="en-US" sz="6000" spc="-1" strike="noStrike">
              <a:solidFill>
                <a:srgbClr val="ffc8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2232000" cy="720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2519280" cy="63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ortalfox.com/" TargetMode="External"/><Relationship Id="rId2" Type="http://schemas.openxmlformats.org/officeDocument/2006/relationships/hyperlink" Target="http://www.portalfox.com/" TargetMode="External"/><Relationship Id="rId3" Type="http://schemas.openxmlformats.org/officeDocument/2006/relationships/hyperlink" Target="http://www.portalfox.com/" TargetMode="External"/><Relationship Id="rId4" Type="http://schemas.openxmlformats.org/officeDocument/2006/relationships/hyperlink" Target="http://tucuman.portalfox.com/" TargetMode="External"/><Relationship Id="rId5" Type="http://schemas.openxmlformats.org/officeDocument/2006/relationships/hyperlink" Target="http://tucuman.portalfox.com/" TargetMode="External"/><Relationship Id="rId6" Type="http://schemas.openxmlformats.org/officeDocument/2006/relationships/hyperlink" Target="http://tucuman.portalfox.com/" TargetMode="External"/><Relationship Id="rId7" Type="http://schemas.openxmlformats.org/officeDocument/2006/relationships/hyperlink" Target="mailto:tucuman@portalfox.com" TargetMode="External"/><Relationship Id="rId8" Type="http://schemas.openxmlformats.org/officeDocument/2006/relationships/hyperlink" Target="mailto:usuariostucuman@portalfox.com" TargetMode="External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news://msnews.microsoft.com/microsoft.public.es.vfoxpro" TargetMode="External"/><Relationship Id="rId2" Type="http://schemas.openxmlformats.org/officeDocument/2006/relationships/hyperlink" Target="news://msnews.microsoft.com/microsoft.public.es.vfoxpro" TargetMode="External"/><Relationship Id="rId3" Type="http://schemas.openxmlformats.org/officeDocument/2006/relationships/hyperlink" Target="news://msnews.microsoft.com/microsoft.public.es.vfoxpro" TargetMode="External"/><Relationship Id="rId4" Type="http://schemas.openxmlformats.org/officeDocument/2006/relationships/hyperlink" Target="news://msnews.microsoft.com/microsoft.public.es.vfoxpro" TargetMode="External"/><Relationship Id="rId5" Type="http://schemas.openxmlformats.org/officeDocument/2006/relationships/hyperlink" Target="news://msnews.microsoft.com/microsoft.public.es.vfoxpro" TargetMode="Externa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424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c800"/>
                </a:solidFill>
                <a:latin typeface="Tahoma"/>
              </a:rPr>
              <a:t>Visual FoxPro y Programación Orientada a Objetos</a:t>
            </a:r>
            <a:endParaRPr b="1" lang="en-US" sz="60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95280" y="551664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Daniel Día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VFPSkin Te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daniel@vfpskin.com.a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POO en Visual FoxPro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412640"/>
            <a:ext cx="87361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Bibliotecas de Clas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Qué 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lases de Base personaliz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Biblioteca de Clases </a:t>
            </a:r>
            <a:r>
              <a:rPr b="0" lang="es-E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MisClasesBase.VCX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Propiedades y Eventos Bás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lass, BaseClass, ClassLibrary y ParentCl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Init, Destroy y Err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POO en Visual FoxPro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412640"/>
            <a:ext cx="87361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Diseñando Clas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Ejemplo EMPRE S.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Formas de diseñar cl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Visual: Diseñador de Cl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Create Cl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odify Cl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Administrador de Proyec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NO-Visual: (PR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Define Cl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 algn="r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Formulario </a:t>
            </a:r>
            <a:r>
              <a:rPr b="0" lang="es-E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es de Base Personalizadas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POO en Visual FoxPro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412640"/>
            <a:ext cx="87361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Encapsul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PMs Públ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PMs Proteg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PMs Ocul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*_Access y *_As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Al crear P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Al modificar P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Manu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POO en Visual FoxPro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412640"/>
            <a:ext cx="87361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Característ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Diseño vis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lases de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Herencia Si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Trabaja con otros objetos externos (Automation, ActiveX, et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POO en Visual FoxPro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412640"/>
            <a:ext cx="87361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*_Access y *_As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Son independi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Aplicable sobre propiedades n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Propiedad Value NO admite Assig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Disparados SOLO en Tiempo de Ejecu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Métodos que funcionan como Ev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(Clase </a:t>
            </a:r>
            <a:r>
              <a:rPr b="0" lang="es-E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cntReloj </a:t>
            </a: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y formulario</a:t>
            </a:r>
            <a:r>
              <a:rPr b="0" lang="es-E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 Ejemplo del reloj</a:t>
            </a: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This_A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ontrol de acceso al obje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(</a:t>
            </a:r>
            <a:r>
              <a:rPr b="1" lang="es-MX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F</a:t>
            </a: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ormulario</a:t>
            </a:r>
            <a:r>
              <a:rPr b="0" lang="es-E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 Ejemplo de</a:t>
            </a:r>
            <a:r>
              <a:rPr b="0" lang="es-MX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 This_Access</a:t>
            </a: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POO en Visual FoxPro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412640"/>
            <a:ext cx="87361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Jerarquía de Clas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Árbol genealóg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Her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Secuencia de llamadas al ejecutar códi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DoDefault([Parámetro1, ..., Parámetro </a:t>
            </a:r>
            <a:r>
              <a:rPr b="0" i="1" lang="es-AR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]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Operador :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NoDefau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  <a:ea typeface="Tahoma"/>
              </a:rPr>
              <a:t>(Clases </a:t>
            </a:r>
            <a:r>
              <a:rPr b="0" lang="es-E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MiCmdCerrar, MiCmdCerrarSeguro y MiCmdCerrarErroneo</a:t>
            </a:r>
            <a:r>
              <a:rPr b="1" lang="es-ES" sz="14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(Formularios</a:t>
            </a:r>
            <a:r>
              <a:rPr b="0" lang="es-E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Ejemplo de Jerarquía de Clases</a:t>
            </a:r>
            <a:r>
              <a:rPr b="1" lang="es-E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s-MX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y</a:t>
            </a:r>
            <a:r>
              <a:rPr b="0" lang="es-E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Ejemplo de reloj con alarma</a:t>
            </a:r>
            <a:r>
              <a:rPr b="1" lang="es-E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POO en Visual FoxPro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1412640"/>
            <a:ext cx="87361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Jerarquía de Contenedor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oncepto de </a:t>
            </a:r>
            <a:r>
              <a:rPr b="0" i="1" lang="es-AR" sz="2800" spc="-1" strike="noStrike">
                <a:solidFill>
                  <a:srgbClr val="ffffff"/>
                </a:solidFill>
                <a:latin typeface="Tahoma"/>
              </a:rPr>
              <a:t>Contene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Secuencias de Eventos en una Aplic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Configuración del Entor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Creación de Objetos de manejo inter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READ EV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Ejecución de un Formul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Apertura del Entorno de Da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Load del Formul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Inits: ED, Controles (de adentro hacia fuera), Formul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POO en Visual FoxPro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412640"/>
            <a:ext cx="87361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Jerarquía de Contenedores (Cont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Activate del Formul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Refresh de los controles (desde adentro hacia fue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When del control con TabIndex =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GotFocus del Formular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GotFocus de los contenedores del contr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GotFocus del contr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Eventos que ocurren por interacción del usu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MouseMove, MouseEnter, MouseLeave al mover el mo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When, GotFocus y Message al tomar el foco un control por Click o T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POO en Visual FoxPro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240" y="1412640"/>
            <a:ext cx="87361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Jerarquía de Contenedores (Cont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Cerramos el Formul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Llamada a Release o QueryUnload sin NoDefaul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Destroy: primero el formulario y después sus controles (de afuera hacia adentr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Destrucción del 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Si AutoCloseTables es .T., se cierran las tablas y se dispara AfterCloseTab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Si AutoCloseTables es .F., las tablas se cierran sólo por un CloseTables llamado programáticam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Destroy del ED: primero el ED y después los cursores y rel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POO en Visual FoxPro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412640"/>
            <a:ext cx="87361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Jerarquía de Contenedor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Referenciar obje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Th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This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Sugerenc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Uso del bloque With...End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Uso de vari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r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(Formularios</a:t>
            </a:r>
            <a:r>
              <a:rPr b="0" lang="es-E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 Ejemplo de Jerarquía de Contenedores</a:t>
            </a: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Ejemplo de Jerarquías y BindEvents</a:t>
            </a: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¿Quién soy?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Programador desde el año 1992 en lenguajes xBase (Fox 2.6, Clipper 5.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Trabajo con Visual FoxPro desde la versión 3.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Integrante del VFPSkin Te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Coordinador de PortalFox Tucumá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POO en Visual FoxPro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240" y="1412640"/>
            <a:ext cx="87361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DDE, OLE, Automation y ActiveX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Un poco de his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Formatos de arch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Aplicaciones integr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DDE (Dynamic Data Exchan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OLE (Object Linking &amp; Embed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Auto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 modelo de objetos y sintaxis similar a la de VF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 poco conocimiento del modelo de obje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Comunicación Cliente / Servi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POO en Visual FoxPro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412640"/>
            <a:ext cx="87361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DDE, OLE, Automation y ActiveX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Auto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Visual FoxPro puede trabajar como Cliente o Servi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ActiveX (OCX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Objeto similar a los conoci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Uso del término </a:t>
            </a:r>
            <a:r>
              <a:rPr b="0" i="1" lang="es-AR" sz="2400" spc="-1" strike="noStrike">
                <a:solidFill>
                  <a:srgbClr val="ffffff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Alc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r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(Formulario </a:t>
            </a:r>
            <a:r>
              <a:rPr b="0" lang="es-E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Ejemplo de Automation y ActiveX</a:t>
            </a: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POO en Visual FoxPro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1412640"/>
            <a:ext cx="87361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Herramientas para Objetos en VF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IntelliS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Examinador de Cl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Examinador de Obje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Galería de Compon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Foundation 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VFP 8 y POO – Nuevas características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412640"/>
            <a:ext cx="87361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IntelliSense en el Debug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BindEvents (Enlace de Event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(Formulario </a:t>
            </a:r>
            <a:r>
              <a:rPr b="0" lang="es-E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Ejemplo de Jerarquías y BindEvents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Nuevas cl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Empty, Exception, Collection, Data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Subclases miemb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Page, OptionButton, CommandButton, Header, Colum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(Formulario </a:t>
            </a:r>
            <a:r>
              <a:rPr b="0" lang="es-MX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Member Class y Clases definidas por código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ToolBo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Ver código primario y hered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Tahoma"/>
              </a:rPr>
              <a:t>Enlaces y correos del grupo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PortalFo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eec85e"/>
                </a:solidFill>
                <a:uFillTx/>
                <a:latin typeface="Tahoma"/>
                <a:hlinkClick r:id="rId1"/>
              </a:rPr>
              <a:t>http</a:t>
            </a:r>
            <a:r>
              <a:rPr b="0" lang="es-AR" sz="2800" spc="-1" strike="noStrike" u="sng">
                <a:solidFill>
                  <a:srgbClr val="eec85e"/>
                </a:solidFill>
                <a:uFillTx/>
                <a:latin typeface="Tahoma"/>
                <a:hlinkClick r:id="rId2"/>
              </a:rPr>
              <a:t>://</a:t>
            </a:r>
            <a:r>
              <a:rPr b="0" lang="es-AR" sz="2800" spc="-1" strike="noStrike" u="sng">
                <a:solidFill>
                  <a:srgbClr val="eec85e"/>
                </a:solidFill>
                <a:uFillTx/>
                <a:latin typeface="Tahoma"/>
                <a:hlinkClick r:id="rId3"/>
              </a:rPr>
              <a:t>www.portalfox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PortalFox Tucumá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Sitio We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eec85e"/>
                </a:solidFill>
                <a:uFillTx/>
                <a:latin typeface="Tahoma"/>
                <a:hlinkClick r:id="rId4"/>
              </a:rPr>
              <a:t>http</a:t>
            </a:r>
            <a:r>
              <a:rPr b="0" lang="es-AR" sz="2400" spc="-1" strike="noStrike" u="sng">
                <a:solidFill>
                  <a:srgbClr val="eec85e"/>
                </a:solidFill>
                <a:uFillTx/>
                <a:latin typeface="Tahoma"/>
                <a:hlinkClick r:id="rId5"/>
              </a:rPr>
              <a:t>://</a:t>
            </a:r>
            <a:r>
              <a:rPr b="0" lang="es-AR" sz="2400" spc="-1" strike="noStrike" u="sng">
                <a:solidFill>
                  <a:srgbClr val="eec85e"/>
                </a:solidFill>
                <a:uFillTx/>
                <a:latin typeface="Tahoma"/>
                <a:hlinkClick r:id="rId6"/>
              </a:rPr>
              <a:t>tucuman.portalfox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orreo electrón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eec85e"/>
                </a:solidFill>
                <a:uFillTx/>
                <a:latin typeface="Tahoma"/>
                <a:hlinkClick r:id="rId7"/>
              </a:rPr>
              <a:t>tucuman@portalfox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Lista de distribu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eec85e"/>
                </a:solidFill>
                <a:uFillTx/>
                <a:latin typeface="Tahoma"/>
                <a:hlinkClick r:id="rId8"/>
              </a:rPr>
              <a:t>usuariostucuman@portalfox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Tahoma"/>
              </a:rPr>
              <a:t>Sitios para consultas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Grupos de Noticias de Visual FoxPro en españ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eec85e"/>
                </a:solidFill>
                <a:uFillTx/>
                <a:latin typeface="Tahoma"/>
                <a:hlinkClick r:id="rId1"/>
              </a:rPr>
              <a:t>news</a:t>
            </a:r>
            <a:r>
              <a:rPr b="0" lang="es-AR" sz="2000" spc="-1" strike="noStrike" u="sng">
                <a:solidFill>
                  <a:srgbClr val="eec85e"/>
                </a:solidFill>
                <a:uFillTx/>
                <a:latin typeface="Tahoma"/>
                <a:hlinkClick r:id="rId2"/>
              </a:rPr>
              <a:t>://</a:t>
            </a:r>
            <a:r>
              <a:rPr b="0" lang="es-AR" sz="2000" spc="-1" strike="noStrike" u="sng">
                <a:solidFill>
                  <a:srgbClr val="eec85e"/>
                </a:solidFill>
                <a:uFillTx/>
                <a:latin typeface="Tahoma"/>
                <a:hlinkClick r:id="rId3"/>
              </a:rPr>
              <a:t>msnews.microsoft.com</a:t>
            </a:r>
            <a:r>
              <a:rPr b="0" lang="es-AR" sz="2000" spc="-1" strike="noStrike" u="sng">
                <a:solidFill>
                  <a:srgbClr val="eec85e"/>
                </a:solidFill>
                <a:uFillTx/>
                <a:latin typeface="Tahoma"/>
                <a:hlinkClick r:id="rId4"/>
              </a:rPr>
              <a:t>/</a:t>
            </a:r>
            <a:r>
              <a:rPr b="0" lang="es-AR" sz="2000" spc="-1" strike="noStrike" u="sng">
                <a:solidFill>
                  <a:srgbClr val="eec85e"/>
                </a:solidFill>
                <a:uFillTx/>
                <a:latin typeface="Tahoma"/>
                <a:hlinkClick r:id="rId5"/>
              </a:rPr>
              <a:t>microsoft.public.es.vfoxp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news://msnews.microsoft.com/microsoft.public.es.vfoxpro.contro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news://msnews.microsoft.com/microsoft.public.es.vfoxpro.da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news://msnews.microsoft.com/microsoft.public.es.vfoxpro.formular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news://msnews.microsoft.com/microsoft.public.es.vfoxpro.infor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news://msnews.microsoft.com/microsoft.public.es.vfoxpro.lengua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news://msnews.microsoft.com/microsoft.public.es.vfoxpro.we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Grupo de Yahoo vFoxP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http://groups.yahoo.com/group/vfoxp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3640" y="2133720"/>
            <a:ext cx="8569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Tahoma"/>
              </a:rPr>
              <a:t>¡Gracias!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3715920"/>
            <a:ext cx="8640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 esperamos en la próxima char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Tahoma"/>
              </a:rPr>
              <a:t>Agenda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Programación Orientada a Objetos (PO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POO en Visual FoxP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Características de Visual FoxPro 8 relacionadas con Obje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Programación Orientada a Objetos</a:t>
            </a:r>
            <a:br>
              <a:rPr sz="3600"/>
            </a:b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(POO)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¿Qué es la PO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Nueva forma de percibir la realidad para representarla en una aplicación basada fuertemente en el concepto de </a:t>
            </a:r>
            <a:r>
              <a:rPr b="0" i="1" lang="es-AR" sz="2000" spc="-1" strike="noStrike">
                <a:solidFill>
                  <a:srgbClr val="ffffff"/>
                </a:solidFill>
                <a:latin typeface="Verdana"/>
              </a:rPr>
              <a:t>Obje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Características y Comportamie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Propiedades, Eventos y Métodos </a:t>
            </a: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(PEM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Cl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lase # Obje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Plano de Refe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Encapsul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Esconder la complej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Asegurar la integridad de los da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Her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Facilidad para mante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Ahorro del tiempo de desarrollo de objetos de características simila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Mensaj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Modo de comunicación entre los obje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Programación Orientada a Objetos</a:t>
            </a:r>
            <a:br>
              <a:rPr sz="3600"/>
            </a:b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(POO)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Conclus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La POO nos perm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Mantener, modificar y corregir fácilmente los obje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Reutilizar código exist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rear objetos pequeños, específicos y totalmente funcion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Ensamblar objetos existentes para crear objetos más complej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Programación Orientada a Objetos</a:t>
            </a:r>
            <a:br>
              <a:rPr sz="3600"/>
            </a:b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(POO)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POO en Visual FoxPro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412640"/>
            <a:ext cx="87361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Característ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Diseño vis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lases de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Herencia Si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Trabaja con otros objetos externos (Automation, ActiveX, et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POO en Visual FoxPro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13000"/>
            <a:ext cx="87361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Clases de Ba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04920" y="2133720"/>
            <a:ext cx="8838360" cy="4343040"/>
            <a:chOff x="304920" y="2133720"/>
            <a:chExt cx="8838360" cy="4343040"/>
          </a:xfrm>
        </p:grpSpPr>
        <p:sp>
          <p:nvSpPr>
            <p:cNvPr id="98" name=""/>
            <p:cNvSpPr/>
            <p:nvPr/>
          </p:nvSpPr>
          <p:spPr>
            <a:xfrm>
              <a:off x="304920" y="2133720"/>
              <a:ext cx="144252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CheckBox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47440" y="2133720"/>
              <a:ext cx="189720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Collectio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45000" y="2133720"/>
              <a:ext cx="17182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ComboBox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63640" y="2133720"/>
              <a:ext cx="185004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CommandButton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14040" y="2133720"/>
              <a:ext cx="18352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CommandGroup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920" y="2763720"/>
              <a:ext cx="14425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Contain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47440" y="2763720"/>
              <a:ext cx="189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Control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5000" y="2763720"/>
              <a:ext cx="17182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CursorAdapt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63640" y="2763720"/>
              <a:ext cx="1850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Custom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14040" y="2763720"/>
              <a:ext cx="18352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DataEnvironment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3393360"/>
              <a:ext cx="144252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EditBox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47440" y="3393360"/>
              <a:ext cx="189720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Form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45000" y="3393360"/>
              <a:ext cx="17182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FormSet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63640" y="3393360"/>
              <a:ext cx="185004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Gri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14040" y="3393360"/>
              <a:ext cx="18352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Colum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920" y="3880080"/>
              <a:ext cx="144252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Head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47440" y="3880080"/>
              <a:ext cx="189720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HyperLin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45000" y="3880080"/>
              <a:ext cx="17182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Imag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63640" y="3880080"/>
              <a:ext cx="185004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Label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14040" y="3880080"/>
              <a:ext cx="18352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920" y="4367160"/>
              <a:ext cx="144252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ListBox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47440" y="4367160"/>
              <a:ext cx="189720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OLEBoundControl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45000" y="4367160"/>
              <a:ext cx="17182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OL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63640" y="4367160"/>
              <a:ext cx="185004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OptionButto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14040" y="4367160"/>
              <a:ext cx="18352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OptionGroup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4920" y="4996800"/>
              <a:ext cx="144252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Pag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47440" y="4996800"/>
              <a:ext cx="189720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PageFram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45000" y="4996800"/>
              <a:ext cx="17182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ProjectHoo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63640" y="4996800"/>
              <a:ext cx="185004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Separato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14040" y="4996800"/>
              <a:ext cx="18352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Shap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920" y="5483520"/>
              <a:ext cx="144252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Spinn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47440" y="5483520"/>
              <a:ext cx="189720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TextBox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45000" y="5483520"/>
              <a:ext cx="17182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Tim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63640" y="5483520"/>
              <a:ext cx="185004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ToolBa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14040" y="5483520"/>
              <a:ext cx="18352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XMLAdap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920" y="5970600"/>
              <a:ext cx="144252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XMLFiel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47440" y="5970600"/>
              <a:ext cx="189720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rebuchet MS"/>
                  <a:ea typeface="Times New Roman"/>
                </a:rPr>
                <a:t>XMLTabl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26640" y="5961600"/>
              <a:ext cx="55166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800"/>
                </a:solidFill>
                <a:latin typeface="Tahoma"/>
              </a:rPr>
              <a:t>POO en Visual FoxPro</a:t>
            </a:r>
            <a:endParaRPr b="1" lang="en-US" sz="3600" spc="-1" strike="noStrike">
              <a:solidFill>
                <a:srgbClr val="ffc8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413000"/>
            <a:ext cx="873612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Clasificación de las clases de VF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1905120"/>
            <a:ext cx="8762760" cy="4571640"/>
            <a:chOff x="228600" y="1905120"/>
            <a:chExt cx="8762760" cy="4571640"/>
          </a:xfrm>
        </p:grpSpPr>
        <p:grpSp>
          <p:nvGrpSpPr>
            <p:cNvPr id="139" name=""/>
            <p:cNvGrpSpPr/>
            <p:nvPr/>
          </p:nvGrpSpPr>
          <p:grpSpPr>
            <a:xfrm>
              <a:off x="235080" y="1910880"/>
              <a:ext cx="8748360" cy="4559040"/>
              <a:chOff x="235080" y="1910880"/>
              <a:chExt cx="8748360" cy="455904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235080" y="1910880"/>
                <a:ext cx="3269880" cy="707040"/>
                <a:chOff x="235080" y="1910880"/>
                <a:chExt cx="3269880" cy="707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35080" y="1910880"/>
                  <a:ext cx="3269880" cy="7070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142" name=""/>
                <p:cNvGrpSpPr/>
                <p:nvPr/>
              </p:nvGrpSpPr>
              <p:grpSpPr>
                <a:xfrm>
                  <a:off x="235080" y="1910880"/>
                  <a:ext cx="3269520" cy="706680"/>
                  <a:chOff x="235080" y="1910880"/>
                  <a:chExt cx="3269520" cy="70668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298080" y="1910880"/>
                    <a:ext cx="3142440" cy="70668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AR" sz="1800" spc="-1" strike="noStrike">
                        <a:solidFill>
                          <a:srgbClr val="000073"/>
                        </a:solidFill>
                        <a:latin typeface="Tahoma"/>
                        <a:ea typeface="Tahoma"/>
                      </a:rPr>
                      <a:t>Característica</a:t>
                    </a: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235080" y="1910880"/>
                    <a:ext cx="3269520" cy="706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" name=""/>
              <p:cNvGrpSpPr/>
              <p:nvPr/>
            </p:nvGrpSpPr>
            <p:grpSpPr>
              <a:xfrm>
                <a:off x="3505320" y="1910880"/>
                <a:ext cx="2738880" cy="707040"/>
                <a:chOff x="3505320" y="1910880"/>
                <a:chExt cx="2738880" cy="7070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505320" y="1910880"/>
                  <a:ext cx="2738880" cy="7070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147" name=""/>
                <p:cNvGrpSpPr/>
                <p:nvPr/>
              </p:nvGrpSpPr>
              <p:grpSpPr>
                <a:xfrm>
                  <a:off x="3505320" y="1910880"/>
                  <a:ext cx="2738520" cy="706680"/>
                  <a:chOff x="3505320" y="1910880"/>
                  <a:chExt cx="2738520" cy="70668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3568320" y="1910880"/>
                    <a:ext cx="2611440" cy="70668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AR" sz="1800" spc="-1" strike="noStrike">
                        <a:solidFill>
                          <a:srgbClr val="000073"/>
                        </a:solidFill>
                        <a:latin typeface="Arial"/>
                        <a:ea typeface="Times New Roman"/>
                      </a:rPr>
                      <a:t>SÍ</a:t>
                    </a: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3505320" y="1910880"/>
                    <a:ext cx="2738520" cy="706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" name=""/>
              <p:cNvGrpSpPr/>
              <p:nvPr/>
            </p:nvGrpSpPr>
            <p:grpSpPr>
              <a:xfrm>
                <a:off x="6244560" y="1910880"/>
                <a:ext cx="2738880" cy="707040"/>
                <a:chOff x="6244560" y="1910880"/>
                <a:chExt cx="2738880" cy="7070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244560" y="1910880"/>
                  <a:ext cx="2738880" cy="7070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6244560" y="1910880"/>
                  <a:ext cx="2738520" cy="706680"/>
                  <a:chOff x="6244560" y="1910880"/>
                  <a:chExt cx="2738520" cy="70668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6307560" y="1910880"/>
                    <a:ext cx="2611440" cy="70668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AR" sz="1800" spc="-1" strike="noStrike">
                        <a:solidFill>
                          <a:srgbClr val="000073"/>
                        </a:solidFill>
                        <a:latin typeface="Tahoma"/>
                        <a:ea typeface="Tahoma"/>
                      </a:rPr>
                      <a:t>NO</a:t>
                    </a: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6244560" y="1910880"/>
                    <a:ext cx="2738520" cy="706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" name=""/>
              <p:cNvGrpSpPr/>
              <p:nvPr/>
            </p:nvGrpSpPr>
            <p:grpSpPr>
              <a:xfrm>
                <a:off x="235080" y="2618280"/>
                <a:ext cx="3269880" cy="864360"/>
                <a:chOff x="235080" y="2618280"/>
                <a:chExt cx="3269880" cy="8643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98080" y="2618280"/>
                  <a:ext cx="314280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800" spc="-1" strike="noStrike">
                      <a:solidFill>
                        <a:srgbClr val="eaeaea"/>
                      </a:solidFill>
                      <a:latin typeface="Trebuchet MS"/>
                      <a:ea typeface="Tahoma"/>
                    </a:rPr>
                    <a:t>¿Pueden contener otros objetos?</a:t>
                  </a: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35080" y="2618280"/>
                  <a:ext cx="326988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505320" y="2618280"/>
                <a:ext cx="2738880" cy="864360"/>
                <a:chOff x="3505320" y="2618280"/>
                <a:chExt cx="2738880" cy="8643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568320" y="2618280"/>
                  <a:ext cx="261180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eaeaea"/>
                      </a:solidFill>
                      <a:latin typeface="Trebuchet MS"/>
                      <a:ea typeface="Tahoma"/>
                    </a:rPr>
                    <a:t>Clases Contenedoras (Form, Page, Container)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505320" y="2618280"/>
                  <a:ext cx="273888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244560" y="2618280"/>
                <a:ext cx="2738880" cy="864360"/>
                <a:chOff x="6244560" y="2618280"/>
                <a:chExt cx="2738880" cy="8643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307560" y="2618280"/>
                  <a:ext cx="261180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eaeaea"/>
                      </a:solidFill>
                      <a:latin typeface="Trebuchet MS"/>
                      <a:ea typeface="Tahoma"/>
                    </a:rPr>
                    <a:t>Clases NO Contenedoras (Label, Header, Shape)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244560" y="2618280"/>
                  <a:ext cx="273888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35080" y="3483000"/>
                <a:ext cx="3269880" cy="1060920"/>
                <a:chOff x="235080" y="3483000"/>
                <a:chExt cx="3269880" cy="10609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98080" y="3483000"/>
                  <a:ext cx="3142800" cy="10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800" spc="-1" strike="noStrike">
                      <a:solidFill>
                        <a:srgbClr val="eaeaea"/>
                      </a:solidFill>
                      <a:latin typeface="Trebuchet MS"/>
                      <a:ea typeface="Tahoma"/>
                    </a:rPr>
                    <a:t>¿Se pueden diseñar visualmente?</a:t>
                  </a: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35080" y="3483000"/>
                  <a:ext cx="3269880" cy="10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505320" y="3483000"/>
                <a:ext cx="2738880" cy="1060920"/>
                <a:chOff x="3505320" y="3483000"/>
                <a:chExt cx="2738880" cy="10609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568320" y="3483000"/>
                  <a:ext cx="2611800" cy="10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800" spc="-1" strike="noStrike">
                      <a:solidFill>
                        <a:srgbClr val="eaeaea"/>
                      </a:solidFill>
                      <a:latin typeface="Trebuchet MS"/>
                      <a:ea typeface="Tahoma"/>
                    </a:rPr>
                    <a:t>Clases diseñadas visualmente (Form, TextBox, EditBox)</a:t>
                  </a: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505320" y="3483000"/>
                  <a:ext cx="2738880" cy="10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244560" y="3483000"/>
                <a:ext cx="2738880" cy="1060920"/>
                <a:chOff x="6244560" y="3483000"/>
                <a:chExt cx="2738880" cy="10609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307560" y="3483000"/>
                  <a:ext cx="2611800" cy="10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800" spc="-1" strike="noStrike">
                      <a:solidFill>
                        <a:srgbClr val="eaeaea"/>
                      </a:solidFill>
                      <a:latin typeface="Trebuchet MS"/>
                      <a:ea typeface="Tahoma"/>
                    </a:rPr>
                    <a:t>Clases diseñadas sólo por código (Header, Column)</a:t>
                  </a: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244560" y="3483000"/>
                  <a:ext cx="2738880" cy="10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35080" y="4544280"/>
                <a:ext cx="3269880" cy="864360"/>
                <a:chOff x="235080" y="4544280"/>
                <a:chExt cx="3269880" cy="8643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8080" y="4544280"/>
                  <a:ext cx="314280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800" spc="-1" strike="noStrike">
                      <a:solidFill>
                        <a:srgbClr val="eaeaea"/>
                      </a:solidFill>
                      <a:latin typeface="Trebuchet MS"/>
                      <a:ea typeface="Tahoma"/>
                    </a:rPr>
                    <a:t>¿Tienen representación visual en mi aplicación?</a:t>
                  </a: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35080" y="4544280"/>
                  <a:ext cx="326988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505320" y="4544280"/>
                <a:ext cx="2738880" cy="864360"/>
                <a:chOff x="3505320" y="4544280"/>
                <a:chExt cx="2738880" cy="8643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568320" y="4544280"/>
                  <a:ext cx="261180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800" spc="-1" strike="noStrike">
                      <a:solidFill>
                        <a:srgbClr val="eaeaea"/>
                      </a:solidFill>
                      <a:latin typeface="Trebuchet MS"/>
                      <a:ea typeface="Tahoma"/>
                    </a:rPr>
                    <a:t>Clases Visuales (CheckBox, TextBox)</a:t>
                  </a: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505320" y="4544280"/>
                  <a:ext cx="273888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244560" y="4544280"/>
                <a:ext cx="2738880" cy="864360"/>
                <a:chOff x="6244560" y="4544280"/>
                <a:chExt cx="2738880" cy="8643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307560" y="4544280"/>
                  <a:ext cx="261180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800" spc="-1" strike="noStrike">
                      <a:solidFill>
                        <a:srgbClr val="eaeaea"/>
                      </a:solidFill>
                      <a:latin typeface="Trebuchet MS"/>
                      <a:ea typeface="Tahoma"/>
                    </a:rPr>
                    <a:t>Clases no visuales (Timer, Custom)</a:t>
                  </a: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244560" y="4544280"/>
                  <a:ext cx="273888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35080" y="5409000"/>
                <a:ext cx="3269880" cy="1060920"/>
                <a:chOff x="235080" y="5409000"/>
                <a:chExt cx="3269880" cy="10609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98080" y="5409000"/>
                  <a:ext cx="3142800" cy="10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800" spc="-1" strike="noStrike">
                      <a:solidFill>
                        <a:srgbClr val="eaeaea"/>
                      </a:solidFill>
                      <a:latin typeface="Trebuchet MS"/>
                      <a:ea typeface="Tahoma"/>
                    </a:rPr>
                    <a:t>¿Se pueden agregar a cualquier contenedor?</a:t>
                  </a: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35080" y="5409000"/>
                  <a:ext cx="3269880" cy="10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505320" y="5409000"/>
                <a:ext cx="2738880" cy="1060920"/>
                <a:chOff x="3505320" y="5409000"/>
                <a:chExt cx="2738880" cy="10609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568320" y="5409000"/>
                  <a:ext cx="2611800" cy="10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800" spc="-1" strike="noStrike">
                      <a:solidFill>
                        <a:srgbClr val="eaeaea"/>
                      </a:solidFill>
                      <a:latin typeface="Trebuchet MS"/>
                      <a:ea typeface="Tahoma"/>
                    </a:rPr>
                    <a:t>Clases independientes (Label, Shape, Timer)</a:t>
                  </a: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05320" y="5409000"/>
                  <a:ext cx="2738880" cy="10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6244560" y="5409000"/>
                <a:ext cx="2738880" cy="1060920"/>
                <a:chOff x="6244560" y="5409000"/>
                <a:chExt cx="2738880" cy="10609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307560" y="5409000"/>
                  <a:ext cx="2611800" cy="10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800" spc="-1" strike="noStrike">
                      <a:solidFill>
                        <a:srgbClr val="eaeaea"/>
                      </a:solidFill>
                      <a:latin typeface="Trebuchet MS"/>
                      <a:ea typeface="Tahoma"/>
                    </a:rPr>
                    <a:t>Clases dependientes (PageFrame, OptionButton, Header, Column)</a:t>
                  </a: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244560" y="5409000"/>
                  <a:ext cx="2738880" cy="10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1" name=""/>
            <p:cNvSpPr/>
            <p:nvPr/>
          </p:nvSpPr>
          <p:spPr>
            <a:xfrm>
              <a:off x="228600" y="1905120"/>
              <a:ext cx="876276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8T02:22:18Z</dcterms:created>
  <dc:creator>Luis María Guayán</dc:creator>
  <dc:description/>
  <dc:language>en-US</dc:language>
  <cp:lastModifiedBy>Hernán Daniel Díaz</cp:lastModifiedBy>
  <dcterms:modified xsi:type="dcterms:W3CDTF">2004-03-26T04:04:51Z</dcterms:modified>
  <cp:revision>54</cp:revision>
  <dc:subject>Charla 05/12/2003</dc:subject>
  <dc:title>Visual FoxPro y Datos Remotos</dc:title>
</cp:coreProperties>
</file>